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B923F7-CD09-4697-BF55-54407094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799DB4-D4E3-4981-B4F6-DC9D92702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E9B4DD-DF68-4377-B1C5-2D8E8DD79D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97AAE8-0C6F-4FAB-94D8-3D01BDF5A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BA025C-C75F-4F52-8004-816C451CB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4A5D18-D671-4E2E-A087-0A2328398E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F76C1C-081C-4387-A735-782F6B1E0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DB5651-A983-4910-883E-571696865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1C3624-B9FE-4A57-AEDF-94A2B3B8B0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F52DFD-0A3B-46C7-800F-C671BDB7D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4C764D-FFF6-4289-94DB-01BE839D5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0DBCF8-D011-42CD-BB1D-E3CB67FD94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9C4BBB-5E74-42A3-B528-DEC81EA53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72BFAA-1D6A-4E47-9FA4-BBFA8FF11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4B5-8811-42E2-AFB3-9BE8D2D3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94A-2B09-4442-B2EF-D0433CC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AF9-A69B-4CE5-BED9-4A772D2E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18A-C316-466F-A700-F760F91A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EAF7-03EE-4A48-9AEE-18F90F95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E349-1C43-47F3-8204-67429C0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3186-FC50-462B-B43A-CB8383B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753-3E0D-49B8-8615-6A6CB284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BBB3-0591-4167-AD7A-1943D0B0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B843-6C58-484B-AB05-1419FA8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7F4A-F416-4650-83A2-970C682A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CCB-E0B6-4111-96A4-24CC079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D466-BB0E-4F0D-BD01-E02D68E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BC31-4C8D-44DE-AA24-6C2EA89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7A8D-1DC6-4D4C-9B57-5E3ADD66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6864-5B8F-4DC6-A546-597D53F8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F2BE-148F-4EB5-A04B-F36328AE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74A-BFF8-464E-AB33-16CA5F0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99C-C61D-42F8-94D2-3B527C7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4A7-93BC-482A-9801-4AD57F1C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ED4-C415-4004-BBD4-6BFA8BE4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37B-F6A2-4A12-A35B-7EF926D5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80C-1C99-404B-A9F0-378402B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669-8276-4335-8EAF-121083B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B62-1141-474F-AE72-14F06153D9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299-012B-405C-8C02-85B9A43CF3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Kara Clayton</cp:lastModifiedBy>
  <dcterms:modified xsi:type="dcterms:W3CDTF">2014-01-09T15:04:51Z</dcterms:modified>
  <cp:revision>16</cp:revision>
  <dc:subject/>
  <dc:title>Slide 1</dc:title>
</cp:coreProperties>
</file>