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33A6FD-1793-4F16-B552-EC5EB540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2DE5BC-53AE-4570-8A02-DA9F5D67F2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1D9AA9-76ED-42E5-BBA6-B776643A43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65F89D-DE52-4CEB-8041-AE5B8413E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0F7EBD-149E-4927-8A90-CD6FD974A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5EC4F1-F5C5-498D-A131-F77E52D377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8392B8-8E76-4CED-B174-2A21186345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276A8F-2F0F-4C2F-B476-07FEDDCB8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2F4597-B156-479C-A351-C938F2199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337E8D-462C-4829-A3F4-8277BCD0C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AB0EBA-67B6-4C6B-923F-E21668FCD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2EB1CC-706D-4E78-BC1A-8ABDDD2439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023476-F119-4595-A3E4-EB934BAF7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D45374-E2E9-44EC-B1A6-9C67167DC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9F7-1646-4B51-8E88-02AF3BB2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275-C83A-4F94-86B2-6C67FD5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3FB-1119-45E9-A8CD-FE4E9075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E5E-1B45-4CF8-86FF-0221D47C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4298-1A77-4246-BDD4-4C4A97D3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A6BD-F826-4D76-A1EA-D2453D8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6AE3-6EF2-40CF-9918-BDA36D5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647A-A5AB-4CF2-A76A-F52D87B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B155-1A70-4749-B4AF-3C6323D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CA77-C7E4-411E-B2EA-FC418C1B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EEA0-A271-4243-9DA0-2D1F6A7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6DC-E206-44AF-983F-B52652A0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1B9C-9ED7-422E-B1E7-EE31AD1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4472-3F03-42A3-8616-8F609A5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66E1-1902-4C18-AA0F-034ABDE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F13-122C-48FA-B4F3-C3EEF9B8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21ED-84EE-46B0-AC0C-D5AFBDE1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B10-FE17-4F0C-9ACD-80541CB9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00D-B00D-48C1-AC51-BD225A46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6FF-CDD8-4C3B-8343-90D6CB77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926-DD60-4779-905A-58672848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AD5-5F68-4E83-AED3-2931FF8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CB9-8A00-4C5A-94F6-687E38D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A8A-C49E-4843-A00C-251DE5D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1058-03F9-40D5-A8FE-427AE7DEE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C947-7A10-4A8E-996C-76B9013762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Kara Clayton</cp:lastModifiedBy>
  <dcterms:modified xsi:type="dcterms:W3CDTF">2014-01-09T15:04:51Z</dcterms:modified>
  <cp:revision>16</cp:revision>
  <dc:subject/>
  <dc:title>Slide 1</dc:title>
</cp:coreProperties>
</file>