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6F2A26-CC54-4665-9CC4-A0D93FDD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817AFB-53A1-48FF-A853-009DFFC771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25E1B7-182D-419B-B2A6-92E7370E7A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45CCCD-0381-4507-B963-8D5D182F51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9686DB-7EFC-4B52-8006-0E52E636FD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DC0BAB-5F66-4966-925A-3287803666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4980D0-93D1-4277-97B9-4DED6FCBEF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020283-BDC1-4AAA-BC3C-0511FA15F8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54F759-F3E4-497B-8234-09A30A80E0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3EE351-2B29-4FC7-BEC7-8D39D3BDFB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5C5DC4-A322-47FF-B3B1-ED260AEF1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C9A8C0-A664-46ED-B9A5-70ECD09CA8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CB5DE3-735B-40D5-B85C-A1800DA4EC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65399F-9970-43E7-B888-390B77A60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775-6A5C-4DA0-9E16-4FE26B4E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2D3-9BE8-41E3-9A94-2C7F7ED5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A53-CB47-4472-A99A-28AC7B5E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A39-D8F3-4B90-9166-32449542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9A73-CBE6-46A3-8928-DC114F67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9383-475A-4E7A-B09D-D46707D9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6C26-A4EB-4E03-981D-897CE70D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B87A-211E-48CC-BDE4-82F97ACE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7779-68DA-47C5-BD9C-8662CC15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2DF4-E97B-40EB-AE06-BE155148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EE8C-3192-4A55-92FF-F2452FDE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D43-B02C-4A76-B9F1-E1B57797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BB79-0F28-46CF-88B4-DB950440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34A8-8712-444D-ABFD-C0F46F24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532A-D90E-4552-8AA7-1F750498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790C-1BA0-474D-9066-E8B120B7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24FA-56FB-49E1-AB9E-A2142146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76F-6C30-42F0-AA01-92EC28BF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8C7-8BCC-4304-8FE9-AD0F559C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BD3-A7DA-48E2-95D9-72926BDF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4DD-C67A-420D-8CE1-B07196A7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783-2668-4175-86A6-EB5F5BA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5D3-8249-41D6-8B91-30563D2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D03-8045-47F8-BF49-279E076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D75C-0C97-4176-8241-7B81255C04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2789-243C-4A81-B9F0-EC0B5C4BF7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096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Kara Clayton</cp:lastModifiedBy>
  <dcterms:modified xsi:type="dcterms:W3CDTF">2014-01-09T15:04:51Z</dcterms:modified>
  <cp:revision>16</cp:revision>
  <dc:subject/>
  <dc:title>Slide 1</dc:title>
</cp:coreProperties>
</file>