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4D54E2-C737-49CD-976A-7B369B816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0C9A4C-BA7E-4693-9906-3D67F3F4DB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7CE407-1C2C-4AED-B620-ED2E79FF3F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014BA9-E4A9-4361-B5FE-87D06DAACF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435571-E242-4C1C-9C09-C28A4B5DBC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E98CAF-5DD0-4064-A809-CF71671203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BE2C3A-6418-4176-9AD7-626C620DFA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715710-AD62-4C21-A91B-30E3198513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7C4611-BC63-48DE-9CB0-55636EB88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307F11-4031-435C-B0CB-C2284555DA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5D6E4C-E59C-4767-914F-C672BB8023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F842FE-57CE-4ED3-A4C1-2890C7C792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58496D-F3C2-4AB7-A5C7-8FA38A3385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6F61BC-B96D-4C41-8E40-E67730D4F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9B7-FDA3-439E-AEAF-50310F86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013-32D5-4771-8C01-852F7E6F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6F0-7860-4C98-BEE5-68A28198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018-7B96-4D6B-B1D3-6B1EDD62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BEB6-3EAB-4D8E-8F92-95E64286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156A-C95E-481C-A7D4-99A8162A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4653-708C-4E89-A334-115EC052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502F-B149-4C38-AECE-4CF0535C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CDC7-1DF8-4177-AE14-4EA2953C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6813-941C-4300-9F77-9281098D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A7CA-0521-4319-9BE7-52B1D85A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735-D936-41DC-BF7F-8AED2624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22E9-045B-413E-B855-37789AE6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384E-61C9-4391-B72D-B9EDB8E4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0374-1B8B-47FE-9E7D-DFFAAA09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D68D-B1BE-403D-9A73-E8725FEB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8F58-504C-445F-8F96-EC45D54D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5FE-42BD-4566-BC87-41B81E21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C61-6736-467B-829D-7A961F56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F1A-71A8-4771-B722-E58FB2A8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B97-D427-418F-A076-59C1ED14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4D2-428D-48D0-A07D-FEC87A9D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2A3-A4A3-4386-822B-8C1CFDB2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E35-FE5D-4CB6-9AA3-6200E6E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CB85-220E-4ACF-AFF3-8A9AE41287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0406-00F8-48BF-BA66-E8979863E1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ewmorepics.myspace.com/index.cfm?fuseaction=viewImage&amp;friendID=5488415&amp;albumID=252611&amp;imageID=45303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95280" y="20574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h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133720" y="2514600"/>
            <a:ext cx="495288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is on ground or low…and looking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powerful or sup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_13ff5a6cc3c8f15d93893596f2114cd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86200"/>
            <a:ext cx="26668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0" y="45684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35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looks down on the su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weak or inf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14600" y="1096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l_9d4bd62a10d17a8af91e60a4ef5ee1fd"/>
          <p:cNvPicPr/>
          <p:nvPr/>
        </p:nvPicPr>
        <p:blipFill>
          <a:blip r:embed="rId1"/>
          <a:stretch/>
        </p:blipFill>
        <p:spPr>
          <a:xfrm>
            <a:off x="1143000" y="19051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t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e is diagonal, crook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ggests action or excit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hing abnormal is going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l_27c0f56de526d76fab1e0c3201e21d06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95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a per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people from hea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t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body sh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1451912704_l"/>
          <p:cNvPicPr/>
          <p:nvPr/>
        </p:nvPicPr>
        <p:blipFill>
          <a:blip r:embed="rId1"/>
          <a:stretch/>
        </p:blipFill>
        <p:spPr>
          <a:xfrm>
            <a:off x="5562720" y="1905120"/>
            <a:ext cx="28224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um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the person from about the waist to the h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1381080703_l"/>
          <p:cNvPicPr/>
          <p:nvPr/>
        </p:nvPicPr>
        <p:blipFill>
          <a:blip r:embed="rId1"/>
          <a:stretch/>
        </p:blipFill>
        <p:spPr>
          <a:xfrm>
            <a:off x="3429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5520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atures a person’s head and should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are close to the 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le to more clearly recognize facial expre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l_b338cceeabaf40d97b4e20e4042afe26"/>
          <p:cNvPicPr/>
          <p:nvPr/>
        </p:nvPicPr>
        <p:blipFill>
          <a:blip r:embed="rId1"/>
          <a:stretch/>
        </p:blipFill>
        <p:spPr>
          <a:xfrm>
            <a:off x="4724280" y="358128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reme Close-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osest we can get to a person or o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ye, mouth, watch, doorknob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1168813263_l"/>
          <p:cNvPicPr/>
          <p:nvPr/>
        </p:nvPicPr>
        <p:blipFill>
          <a:blip r:embed="rId1"/>
          <a:stretch/>
        </p:blipFill>
        <p:spPr>
          <a:xfrm>
            <a:off x="5943600" y="38098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_4eff2cf6aeee56857c9ab5710b0c874c"/>
          <p:cNvPicPr/>
          <p:nvPr/>
        </p:nvPicPr>
        <p:blipFill>
          <a:blip r:embed="rId2"/>
          <a:stretch/>
        </p:blipFill>
        <p:spPr>
          <a:xfrm>
            <a:off x="990720" y="4419720"/>
            <a:ext cx="1904760" cy="14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orknob_closeup-750x600"/>
          <p:cNvPicPr/>
          <p:nvPr/>
        </p:nvPicPr>
        <p:blipFill>
          <a:blip r:embed="rId3"/>
          <a:stretch/>
        </p:blipFill>
        <p:spPr>
          <a:xfrm>
            <a:off x="3276720" y="4343400"/>
            <a:ext cx="236196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eye%2520close%2520up"/>
          <p:cNvPicPr/>
          <p:nvPr/>
        </p:nvPicPr>
        <p:blipFill>
          <a:blip r:embed="rId4"/>
          <a:stretch/>
        </p:blipFill>
        <p:spPr>
          <a:xfrm>
            <a:off x="3886200" y="3048120"/>
            <a:ext cx="182880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ablishi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shot of a sce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where the action will be taking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a buil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g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a tit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146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you can click the picture to move forward. until you get to the end."/>
          <p:cNvPicPr/>
          <p:nvPr/>
        </p:nvPicPr>
        <p:blipFill>
          <a:blip r:embed="rId1"/>
          <a:stretch/>
        </p:blipFill>
        <p:spPr>
          <a:xfrm>
            <a:off x="5181480" y="1828800"/>
            <a:ext cx="24386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6"/>
          <p:cNvGrpSpPr/>
          <p:nvPr/>
        </p:nvGrpSpPr>
        <p:grpSpPr>
          <a:xfrm>
            <a:off x="1714680" y="1285920"/>
            <a:ext cx="5143320" cy="360"/>
            <a:chOff x="1714680" y="1285920"/>
            <a:chExt cx="5143320" cy="360"/>
          </a:xfrm>
        </p:grpSpPr>
        <p:sp>
          <p:nvSpPr>
            <p:cNvPr id="120" name="Rectangle 7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5562720" y="4114800"/>
            <a:ext cx="1904760" cy="1828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al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Before"/>
          <p:cNvPicPr/>
          <p:nvPr/>
        </p:nvPicPr>
        <p:blipFill>
          <a:blip r:embed="rId2"/>
          <a:stretch/>
        </p:blipFill>
        <p:spPr>
          <a:xfrm>
            <a:off x="609480" y="3733920"/>
            <a:ext cx="32004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e shoulder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22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ck of person’s head=foregro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haracter’s head=background, but it is in 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know the character is talking to some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OTS"/>
          <p:cNvPicPr/>
          <p:nvPr/>
        </p:nvPicPr>
        <p:blipFill>
          <a:blip r:embed="rId1"/>
          <a:stretch/>
        </p:blipFill>
        <p:spPr>
          <a:xfrm>
            <a:off x="4038480" y="2438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hot with 2 people in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l_59d29de8971e6a11bd99086a4c3993e4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3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9:30Z</dcterms:created>
  <dc:creator>Administrator</dc:creator>
  <dc:description/>
  <dc:language>en-US</dc:language>
  <cp:lastModifiedBy>Kara Clayton</cp:lastModifiedBy>
  <dcterms:modified xsi:type="dcterms:W3CDTF">2014-01-09T15:04:51Z</dcterms:modified>
  <cp:revision>16</cp:revision>
  <dc:subject/>
  <dc:title>Slide 1</dc:title>
</cp:coreProperties>
</file>